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0A7-2732-406F-BAE2-D534F23B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BEE-8842-4E97-8148-EE853E51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8A2D2-1A1D-4097-9878-5E17278A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6A6E6-A94C-44EC-A5E3-E2235164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F34D4-27EA-4054-8C6E-9E4286FB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62AE6-9E8E-4CFD-9D62-838993CE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4DDE6-9725-451A-A077-98376E41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2C242-C4A1-4F8F-B851-E18A2A8B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68CF0-BDEA-4CAC-91C7-AD686141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43227-3701-4A61-82ED-569A0289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8FD11-DF07-4AC5-B9B8-D4BCC653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0C96B-32AA-4ADA-A810-3B2580D2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F73-1C7E-47A9-969F-482D4663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5C465-B653-4B48-9AE2-A472B73C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BB379-7E1F-44EE-8A0F-BB850674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44A60-7AD9-44EB-92AD-519E6A7C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E87F1-16B9-4644-959A-6A162E69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4D38D-667E-4E3F-AC0A-D418683A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DE963-CBBC-458D-8BD9-B750BC4D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282A8-0415-429A-926D-7B6D45BE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F1AAF-61A4-4119-A1E1-DDD4EF62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4B35B-B826-492C-B699-587AFFEB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AB30E-CFC7-4CD7-A266-BCA5571B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D2B-FB1A-4CF8-BB24-81B9F722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41297-45E7-4FC5-8AD4-CB4BE3E4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49DEE-C968-4D55-9F46-41A29FA8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A3D9D-68B7-4E0D-A253-63852E7F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AC5D5-9BA0-4D19-87B2-17CD14E6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F9BC5-7FF5-4BE4-85D4-203BE19B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5F44F-F8EB-4A38-A7BA-DC90B25B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0DA30-DB6B-4646-AC73-81E6E22F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20FE7-8F03-4424-8536-726BA898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5ECFD-4C79-4C16-8270-543885D7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B5FD1-561B-46DE-9D19-61BAD39D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7EEA-FF9F-4520-93C6-3C946202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8B658-2F7B-4B3D-82EB-A376AA7B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77B22-F64A-4575-B7E9-582076CF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21A68-096C-4E19-BF33-F3316401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CA696-7116-4073-BC5D-D86BD938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CB72D-69C4-4480-9476-43B35A6E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08A97-FAA7-4F76-9F6D-423A1B2C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D0739-EB1D-4301-9E86-C2466205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29221-7F0A-4091-A885-46C7559A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15227-780C-4C11-A2BE-292D0834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54B4B-7BDB-4AC2-BEDE-8C81F1E9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CFD5-E34B-48DF-87C6-45679538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C1795-AD94-4DDA-A0B8-722CA74D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5896A-03C0-4749-9F16-F36FF392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D71E1-C0E7-465C-BCCA-E9C58989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6488C-86B3-493A-A29E-DF1A8940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E72D1-1BDA-4EBB-A802-6B30D385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A5B01-235A-46BD-AA73-DBFEB4B7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5B0D8-5959-49DD-8902-C48A5162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285E0-6352-460C-B5D8-ED433C2B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FE1E1-7FB1-403A-AAA1-44B0F204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A8351-6D66-4F12-A5B3-ADFB506E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AD67-13F5-4BE7-8543-213DDA08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D97CB-4A0E-487C-93D0-BFFE5E19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1DE08-286B-4022-B5E8-40A47AB0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E423F-4419-461D-8D86-F8414951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31F0A-D3A9-4858-B552-67B63B10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E5007-496F-44A9-A845-E10FB0A1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89DC4-6202-4E5A-B14E-8736D697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A3BDB-BC29-4097-A502-46A63690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4DB9A-759D-4C25-AA45-2708EC65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92332-C864-4B31-96B4-7368B9A0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A0535-3C65-4CB8-837F-6BE708A2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5DD9-75A8-4687-8AE7-ABAF71D6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D17A84-A55C-4B83-A500-3D176875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BFCFB-13FC-4113-9E22-973FB447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5EA978-8EE3-48D1-881F-2B8365E0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FD681-9479-4F8B-9A15-F1132F93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04732-E065-44BD-9F56-6C802728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1BA893-02D8-4CCB-BF3D-95399778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EF4FFA-09E8-481C-9D93-0DEFC8FB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59941-A902-4D18-A236-7C04FD75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929E2-20AC-4ABF-96AA-A1DA23DF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18C65F-78BC-456F-BF1D-BA5A623A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E58F-AC9F-44AA-A9F6-2BA418BF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6066A3-753F-44F0-831D-7BCC979E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B04F9-5D04-48EB-AFFE-05FCFFED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E3010-9C1E-4678-83C4-28466368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8ECC7-D118-44C1-8063-5ED52570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7A7002-9F39-4695-8C29-862ED388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AFB47B-694F-4260-940E-A9C5BCB6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51EB5-497C-4070-8D6B-177586B9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6B0C5-C460-4222-88C1-86352888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363FA3-8B93-4474-8464-9F972557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987154-4C09-4226-AB00-56D289AD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A06A-279E-4971-AD23-94106DC7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2E1D8D-0FC7-41B9-A21E-3048EFB5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14B2E0-D1DF-428B-BDAF-774713E4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23EFC6-2409-4B12-A6DB-F0A1B9D7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A5412A-DDB9-4ACC-B6D1-BA46C084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24D324-8318-4C41-A3ED-1E048D02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BCE43-C150-45E0-9577-FAA6BD33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71926-263F-4D71-B8D8-7B678350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41B023-40A4-4AC6-BFE5-6E37602F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72AD4-F8B9-4838-90CD-1C46348E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74653-4FC9-4241-A1DC-38409190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D24E-0A9D-4084-A425-85DD99B5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E609E7-C064-4D3B-9979-703981B6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70F992-2ED2-4C5B-9CBB-14ECC241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D5018-4CC1-4568-8B5C-E6662250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52BADF-05ED-474F-9C1E-D5B1CC56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29F561-555A-4DB1-80DB-A3E81DDF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7A7AA3-3F8E-4FB0-B747-F3C3AB78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992BA1-755E-43A1-AB99-5A6F50D0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CD3CD-4D9E-47C3-8A25-9F9EF5E3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33ABE9-0940-48AD-9892-7C1E7724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FF5973-8D91-48AF-9AED-5E2805DD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1BD-06CF-47F3-B313-29B08B4B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6A52-E873-43EB-BC29-3A631CDB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2F76A0-A475-454E-9075-01D8C6AB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AD485-4645-4BD3-8909-64506D91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66F567-99A8-4B96-A766-7BDB1A0B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2C2720-4BE7-4C34-8595-43EA14E0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6695F5-8888-41EF-A042-DF44CF8C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A659E8-6C38-412F-A2C6-85B77D47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03420B-51A8-46EB-99AA-68FBF305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4E35DB-829A-481E-8737-392EBC9A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ACFCE4-6C65-457C-B29F-1F89F633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29081F-2B3A-4D84-8BDF-DA39C76D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1545-0BE2-4483-859C-C3185DD5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73D25-A400-45CF-94AC-13EC6EF8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3F5FE3-FA8F-46FA-A20D-B52737D7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5D21F-1A42-44C3-A151-50B7B953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65E8F-495E-43DA-8E3E-780832AA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C338B5-C24D-42BB-830B-CD2013A4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AA2446-3C06-4133-827E-EB25B622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817FBF-0C6A-4492-9D3B-99037AB0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23816-F194-4299-B771-81E6EEB6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B0E158-95CD-41F1-A381-E0A779F0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08CF44-B43D-4FFB-A135-37F4357D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42EB-B081-4BA1-BCFB-1BFC74FF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42702B-3223-4F5B-9AE9-40CE9E8C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065A82-8845-4DC2-AEF1-13D930E5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141E48-C035-4712-8614-00410B90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CAE676-119C-4914-83E5-3EC2C0B3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026781-4E76-4610-BBB8-D78CCA8C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7497E7-2E03-4D74-AA27-4CE053DF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938358-64A6-4F28-A707-41227C17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06F26E-9709-4D5D-AC7C-1E5E89A9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BDDBA6-DC77-487C-9DFD-7CF5650C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3495A7-33E6-406D-99DB-C53137DC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86A1-B2E2-4243-B3C0-1A260149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680CB2-80AE-49E4-AB31-2E0E90A4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517B67-EE67-42EC-9ED2-63D0E966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72ADF9-51A9-4C6D-A0EE-9226C5BA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50B069-EAA1-4932-AE0B-73B32F17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681A22-43B2-4C30-A917-A06C09D1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6F8E0A-7395-40A6-B12B-64D49FC0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CFE579-56E4-44B5-89B0-A7B8E75A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6C960C-FCD7-43F9-910C-E81BD174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5BB4B8-A27E-4F83-85F3-4B8990AB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EAD02D-1C43-42F6-8C73-BF9666CF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8E64-1930-476C-BD5C-14CFD827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37C1E9-C531-4987-A6EE-DE158DD3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7754B8-A5E5-4382-9EB9-25462204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5D3CEA-80BD-46F2-97E5-352FDE16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5DA3A8-3D2A-4AAE-BADB-9D1D8C5B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97E6CB-4E4B-45E0-B87A-7C49B5F9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66EC03-1CD1-4C63-8E36-54A5CBDE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A24E65-6C15-45C9-9D91-E101005F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C4F984-DD7A-4C49-925F-D15EC924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436173-9C3F-4D8B-BC35-0A1819DE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F806F8-8E38-45A5-A5DC-6AF207FA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CE977-89CE-4044-8116-F733F03B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6ED17C-D1E2-4320-A7BC-E2BCF750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AAA475-E0FE-47D3-AF5A-1D26F2B2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7A3F0B-8961-4A96-ACFA-002BC4D0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A1941B-C628-418B-8300-A4D4D329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57BA3B-1FF8-47EB-84A0-BCE4F47F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315682-D322-4812-AA7F-289ABA77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99D288-FFAB-480E-A14C-6BB9892A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FB1B49-D254-437F-B648-99DE7B1C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57CB3B-C1F4-4C4C-91E4-C2809359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D916A8-8523-4782-9BC2-1E975DBB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A3C8D-05F7-4529-983D-2ABDB88D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3A3397-B918-4F64-981D-593844B7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683365-D4B8-450A-B699-C22A8743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943727-3CC2-4DA5-B112-4B84CB41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360B0B-E10D-42AD-9C10-3DB84685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FF1327-2BCC-4CDB-AF55-686B305B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37F0ED-84AD-40FE-8F96-F4B76543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69FFBD-21AF-4201-87C2-252DF3D2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00D5D4-DA8F-4EE0-AAE1-C7E510BB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2EA9B7-2A16-4464-9A89-FB65C181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EF299C-BCBB-46E0-8977-197B90B2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5FA7E-1CC4-410A-80E4-21B93A35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FDC9C4-5CFB-43D2-95B6-28C0B47E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68FD2C-5BB8-48D0-A6C5-21EE186A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D920EF-D2C3-4679-97F2-96CEE250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62E169-B83D-4EA4-9D3A-E262C8B6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210712-49DD-4675-A0B8-AB476D4B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41A95C-15B6-4C0E-AF00-91D36F6D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6F60FA-E8ED-4299-998F-47D8C3AE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14A1EC-BC04-471E-9400-AD3FC75A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61B98A-D032-41E4-8292-7FFFF1FE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081464-32F6-4462-A548-4C2914E8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80AA7-6089-4AAD-9577-8AB8DBE5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613B3D-7B78-478B-BBA8-A41E692E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C1CE26-F93C-40DF-A9D0-F64B40A2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2BC66F-4985-445F-9FD8-342BF0F8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D67E02-4F4F-47F2-BE1D-F1D62CA4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613025-0E49-4753-B86F-F9327462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685B6D-3B7C-45A1-9697-7D9B88D8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A46DB8-6BC2-447D-B9DC-AE1C750A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5BEF83-1E34-4116-950B-E91489D3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F53E99-6244-4587-A21F-109B2FD0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9D073-5832-4553-A452-F2431788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3F4-1A29-46B2-8580-85EFCFF6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87C7-7140-4ED8-B02C-B1A9ECD6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D88B-EB15-47AA-9229-02BCB0FC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3D005-0270-45C7-8A46-4C81171C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29A5D-DFF2-405E-91BF-53BBB713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A425D-2FE8-4CDD-AE5C-21767646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A4A95-0BC0-4595-9156-B3B3FEA3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E696C-5AD2-4B72-9400-3943FD62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36B41-F6A6-49F7-8F1F-E7CF1647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8295C-80DD-42E2-B806-A9637A78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D40B4-8CA2-4FCF-BC34-C8F6BA1A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812-9D67-43DD-A53D-22762567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E2802-9FB3-4C48-86EB-1F87F1B0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BE406-BA90-4AC7-96A1-A591A7A0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956D7-30E6-49D0-B745-2F818DD5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7364A-41CD-48C6-A7B0-963B4466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E1150-1904-4D42-A886-2700043F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848CF-69F3-45FE-87C6-C38BC756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82CB1-0557-4101-9D71-76BDD013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A7DA0-4020-4CFA-8F64-44D39CE1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2EF3-DB6E-44FB-8BCE-3E908244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0B839-E44A-4177-A48B-F5550508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646-4C92-40DD-B566-32BF74A1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F9516-414E-4D08-8DC2-FEC41B21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393CF-6B25-43FD-9482-8E645F97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FA074-8292-4604-A20B-344A45A7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D3403-D7D5-42A9-8681-5DF1B639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9D17D-D525-440D-A976-72BB5E2D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E6FC5-13F3-4566-91CF-3905CD78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B36FE-328A-4F89-BB8C-F0E8963D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02178-E48A-41A8-BB0D-9ED8DB75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DAC56-8E7C-4A39-9B9A-FDD6926F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6D97A-B69B-4503-9CD0-F6890193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CCB-7DFD-49F2-ABB6-2E66B268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82B48-61AF-45B4-A31F-F50A7EB7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C4469-9BDA-4DAF-9FD7-15EF4B64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84949-A6B9-4953-AE8F-7EED34C9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0F0CA-DAED-44FA-AA7C-E31340C7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C0039-C731-4819-85FA-193D85FF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B2D3B-B425-4069-B7E0-3BF71633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3F0EE-12AF-4AAF-8302-778D310C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AAE31-3E62-4156-A2AF-9946A183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91BD3-DACD-46EB-87AE-CEAFB96C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5E67F-244E-4C48-8FB6-C70F5939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F014-7FEF-480F-8220-848A621A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285C3-40BB-449A-B479-E2D306CA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4B623-1009-43D4-A608-EC1E9553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2F078-177A-4571-B1E6-474E4605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E001A-7393-4F6F-B29E-8A173245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3EDFF-933B-48AA-8763-C4EBD5A3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25D5E-852C-4C4E-944D-C7317489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A0BDC-84E3-41EF-9216-EF174BD8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C7DAE-8FBD-4AF7-ABEC-5F515123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40FF2-085D-4BBD-837B-A25A8B6F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32F4B-780D-4DF3-82D5-092DDFA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11B-4B5C-457D-BA6D-5EF8BA51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C351F-FD21-4B62-92B7-C5E14009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CA379-5B9E-40ED-B4CB-A786DCEB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80458-5E30-4D31-AA9C-0AD32F5D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36A55-F42C-4873-AC30-A14CED32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7CD4E-61CF-45E8-A5FF-D079D53E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13822-1369-4122-B368-8FA1BB09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882DD-9598-4FB6-9859-C1DA30A5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C9551-BAD4-498D-8D7C-D19B2EAA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03D54-A4CE-49F6-942D-119368B9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48BF0-BB9F-4615-9080-FF76626E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1A3-DBDA-4393-B252-BCA034E4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A3F3B-938B-42C5-992F-06BFDFAF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9D803-4138-4980-93DC-9FFABA54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4653A-3DE7-4148-8360-E4764700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D9C81-D057-44AF-AE1F-C592CBAF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762E6-BB53-4FB0-BAFF-76D69A18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79F45-BA63-40A6-B883-CB20F283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163F9-9DE0-4B83-BE29-55F91CA5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7EA50-A92F-495C-A4AA-74161ACC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ECB99-4D85-41F9-8ACC-719C071F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DFDBF-303E-44F0-A6C3-9D7989E2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98CF-46E7-4A8B-8B91-4BFF84C77EEF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400F-2881-48CD-82BE-38686881E54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B24C-176D-4F6A-A786-7A14E7108C54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7509-C22C-4057-9C23-75120A648F0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1A1C-2D62-4051-BAD1-C673ED5B0EDE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4659-F430-4C5F-86FF-8892BDF3C11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7242-C20A-4CF8-B66C-719FD954DD98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C78A-23D8-436B-AC2D-2281169E520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EF59-5E0D-45F6-89D7-5D3DC2A3E29B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F3C2-64EE-4697-8C89-97FFE2AAB66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55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1FF1-E6CF-479B-88B4-E0CBAE121B45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00FB-5CF0-4822-B152-7359AB605BD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494F-FE1B-45F3-BD77-682E80ED5E22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8375-56DB-4AF0-BA40-0518B2D4BA5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F328-BD89-4B40-8D91-FA4E89C4C016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BC9E-0814-4268-8663-65922CB4CA0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2FE1-0AE1-4382-B103-5C3F517E0EF2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0707-3074-4CC8-AF38-AA8B3245E06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3C96-4F39-4CD4-A3CB-48BC5E670D60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5395-BFDC-44A7-88C9-2F0FD2E0BEC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DF87-EE87-4140-B2AC-21359888DA33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5455-795D-49B0-8F3C-3D32E205AFF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50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FFE7-830E-44D4-B585-79B3A803C6CB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DB4E-4F5A-4AF6-A6A3-298EA2D31E8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133F-4EE8-47FC-901F-50BFE1814FE1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2B16-EA69-4C4D-B6DB-F0C611D5674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62AE-92C6-47C8-90E3-4526F0953286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3C7E-D5EA-4975-95C7-C90CA294D42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4613-5D77-40C9-83F5-BDE6B168E279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F118-966C-46BD-8E08-5E230745A79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499A-D767-4A61-8CB1-C48D1BAF5431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7760-F777-4AC5-A760-578E37A906C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CA16-E009-477A-8DE9-319DCA13E769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2750-C074-4711-B1D4-5A0436EBAAB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7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A850-E654-4532-92CA-9571E07282A2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209E-D93C-411E-AA59-AC152AD2534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0165-B9B6-4C58-A12F-B2D4392F8C30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1942-A730-4180-BBAC-25FD60499E1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7BF6-1E37-4E72-A112-6F06FBC8112B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A68B-3E34-4EF4-941C-E979592A6F9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E973-F824-4693-A31E-76EAADD99737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18F4-0979-4C47-8DF5-82D7ED5D342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E2F0-BF7D-46C3-B006-5DFA82C62710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6863-2FA9-4AED-89D8-481D8D4BEEC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86DC-9C15-46F6-B8DE-57FDFFA9C069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19C1-A37A-4474-9DAA-84202A13425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F41A-7E7F-45C9-A0F4-21DF900B295E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DEB8-E6C2-4756-83EE-47CBD6FB2EF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WordArt 6"/>
          <p:cNvSpPr txBox="1"/>
          <p:nvPr/>
        </p:nvSpPr>
        <p:spPr>
          <a:xfrm>
            <a:off x="1143000" y="2071800"/>
            <a:ext cx="7581960" cy="33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蝴蝶的家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2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3"/>
          <p:cNvSpPr/>
          <p:nvPr/>
        </p:nvSpPr>
        <p:spPr>
          <a:xfrm>
            <a:off x="826920" y="220500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Times New Roman"/>
                <a:ea typeface="宋体"/>
              </a:rPr>
              <a:t>下雨的天气，我们遇到过很多次，蝴蝶我们更是遇到过无数只。下雨的日子，你有没有为蝴蝶担心过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Times New Roman"/>
                <a:ea typeface="宋体"/>
              </a:rPr>
              <a:t>为什么我会那么为蝴蝶担心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Times New Roman"/>
                <a:ea typeface="宋体"/>
              </a:rPr>
              <a:t>你是从文中哪里体会到作者为蝴蝶着急的？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826560" y="1557360"/>
            <a:ext cx="72723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是那样的低沉，云是那样的黑，雷、电、雨、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雨欲来风满楼”，当轰隆隆的雷声在耳边响彻，当闪电咔嚓咔嚓地照亮漆黑的夜空，黑云在低沉的天空中翻着跟头，风又在疯狂地吹着哨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者用拟人的写法形象地说明了风雨交加的热闹场面，让人听着心惊、看着害怕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觉得蝴蝶能受得了吗？哪些句子说明了蝴蝶经受不住猛烈的风雨呢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们的身体是那样轻盈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么禁得起这猛烈的风雨呢？   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720108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如蝴蝶没有及时躲过猛烈的风雨，会出现什么样的结果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翅膀会被雨点打湿：</a:t>
            </a:r>
            <a:br>
              <a:rPr sz="2800"/>
            </a:b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   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会被风吹得不知去向：</a:t>
            </a:r>
            <a:br>
              <a:rPr sz="2800"/>
            </a:b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   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彩粉会被雨水冲刷，失去原有的美丽：</a:t>
            </a:r>
            <a:br>
              <a:rPr sz="2800"/>
            </a:b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  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沾上泥污，摔在地上，再也无法飞起来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34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雨时，蝴蝶藏在哪里？作者作出了哪几种假设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屋宇、麦田、松林、园中之花、老树干、桥下、树叶下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作者作了这么多种假设，下雨的时候，蝴蝶是躲在这里吗？你是怎样认为的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谈到了这么多地方，又说都没有见到蝴蝶，说明作者平时怎么样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我们都应该睁大你明亮的眼睛去发现，运用你聪灵的耳朵去聆听，像作者一样，置身于、置心于大自然，做一个善于观察和思考的孩子！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Text Box 2"/>
          <p:cNvSpPr/>
          <p:nvPr/>
        </p:nvSpPr>
        <p:spPr>
          <a:xfrm>
            <a:off x="2700360" y="1628640"/>
            <a:ext cx="30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课外实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3"/>
          <p:cNvSpPr/>
          <p:nvPr/>
        </p:nvSpPr>
        <p:spPr>
          <a:xfrm>
            <a:off x="826920" y="2492280"/>
            <a:ext cx="75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同学们，你们认为蝴蝶的家会在哪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它的家又会是什么样的呢？用你手中的笔为小蝴蝶建一个家吧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WordArt 2"/>
          <p:cNvSpPr txBox="1"/>
          <p:nvPr/>
        </p:nvSpPr>
        <p:spPr>
          <a:xfrm>
            <a:off x="2556000" y="2349360"/>
            <a:ext cx="3889080" cy="224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 见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66"/>
                </a:solidFill>
                <a:latin typeface="Arial"/>
                <a:ea typeface="隶书"/>
              </a:rPr>
              <a:t>学习目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情地朗读课文，抓住重点语句体会作者对弱小生命的关爱之情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会作者语言的生动优美，激发同学们的探索意识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 Box 2"/>
          <p:cNvSpPr/>
          <p:nvPr/>
        </p:nvSpPr>
        <p:spPr>
          <a:xfrm>
            <a:off x="755640" y="249228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同学们看看，图片上是什么呀？看到这些蝴蝶，你最想说的是什么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同学们知道蝴蝶的家在哪里吗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"/>
          <p:cNvSpPr/>
          <p:nvPr/>
        </p:nvSpPr>
        <p:spPr>
          <a:xfrm>
            <a:off x="755640" y="16286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创设情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Picture 4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519960" cy="4824360"/>
          </a:xfrm>
          <a:prstGeom prst="rect">
            <a:avLst/>
          </a:prstGeom>
          <a:ln w="0">
            <a:noFill/>
          </a:ln>
        </p:spPr>
      </p:pic>
      <p:sp>
        <p:nvSpPr>
          <p:cNvPr id="1018" name="Rectangle 5"/>
          <p:cNvSpPr/>
          <p:nvPr/>
        </p:nvSpPr>
        <p:spPr>
          <a:xfrm>
            <a:off x="1452960" y="2696400"/>
            <a:ext cx="7898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蝴 蝶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Picture 5" descr="0d2f12245a43db288744f9e8"/>
          <p:cNvPicPr/>
          <p:nvPr/>
        </p:nvPicPr>
        <p:blipFill>
          <a:blip r:embed="rId1"/>
          <a:stretch/>
        </p:blipFill>
        <p:spPr>
          <a:xfrm>
            <a:off x="1763640" y="1557360"/>
            <a:ext cx="6769080" cy="4608360"/>
          </a:xfrm>
          <a:prstGeom prst="rect">
            <a:avLst/>
          </a:prstGeom>
          <a:ln w="0">
            <a:noFill/>
          </a:ln>
        </p:spPr>
      </p:pic>
      <p:sp>
        <p:nvSpPr>
          <p:cNvPr id="1020" name="Rectangle 6"/>
          <p:cNvSpPr/>
          <p:nvPr/>
        </p:nvSpPr>
        <p:spPr>
          <a:xfrm>
            <a:off x="539640" y="29232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蝴 蝶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阅读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读准字音，读通句子，并把生字词勾画出来多读几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躲避 震撼 喧嚷 玷污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盈  素洁  柔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讨  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1280" y="3645000"/>
            <a:ext cx="777384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从课文中感受到作者怎样的心情？勾画出相关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2"/>
          <p:cNvSpPr/>
          <p:nvPr/>
        </p:nvSpPr>
        <p:spPr>
          <a:xfrm>
            <a:off x="900000" y="2492280"/>
            <a:ext cx="720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同学们默读课文，边读边想，下雨了，文中“我”的心情怎样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认为用哪些词语形容比较贴切，说出自己的原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课文讲了一个怎样的故事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5"/>
          <p:cNvSpPr/>
          <p:nvPr/>
        </p:nvSpPr>
        <p:spPr>
          <a:xfrm>
            <a:off x="1485360" y="16279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感知课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12Z</dcterms:created>
  <dc:creator/>
  <dc:description/>
  <dc:language>en-US</dc:language>
  <cp:lastModifiedBy>万润仪器贸易公司</cp:lastModifiedBy>
  <dcterms:modified xsi:type="dcterms:W3CDTF">2020-08-24T03:31:4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